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E63299-FB4E-4E7A-A3F6-77C226BD27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B95942-57F4-4E1D-B671-31571025F4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95EBEB-AD6C-4EDA-8D19-D7C8A2A43F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F77274-DE9A-457B-BE92-9F36B0813E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0604-630B-434A-91FE-27FACBB5C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C07C-03DB-4505-B768-CFE3D2DC5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D962-AF2E-4786-9EAD-57E3C770A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7FA1-4C24-44A6-A3FD-94EBB791B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7D90-F050-4D7E-BD61-6CB38218DB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F839-FDBE-457E-BF0E-B579571345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030B-C6E3-43EF-8A93-E3760345B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E738-0201-4EF3-88BC-D51E65A68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56B5-464A-488B-A41D-ED3E763D3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D954-4A70-4DDB-810F-8092DFA48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62B1-229C-4CA5-B733-705A53875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C20B-A736-4D60-B457-849632358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9477-0DEC-47D7-8336-972F4DB5E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6D9A-8C16-471D-AA17-D4FD7D744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ED59-E1C5-45DE-A723-41C6518BDA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E0B5-4FF1-49D3-B321-30A5D6BA59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4730-B08F-47CC-88F6-338BB40E6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805D-97EE-439D-8D95-BFD50D86F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EFA0-5926-4C6C-BEEF-6C5D77BD8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424C-A52B-4BEC-ABF2-99B96051B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CC3B-221A-4CFE-8D10-E1CC5CA98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C75E-2180-4104-BF69-478B02E20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FA6E-34C4-4933-B132-A088F5637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CA19-8767-4905-9E1A-02FCD504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636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FCBF3F-9BF3-4243-AA03-91024BE2A1B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335b7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087280-614A-4D45-A429-0169660BE588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53440" y="4365720"/>
            <a:ext cx="1608120" cy="239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: Бухгалтерський облік, його сутність і основи організації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54080" y="3206880"/>
            <a:ext cx="640728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обліковими функціями бухгалтерський  облік поділяється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440" y="1414440"/>
            <a:ext cx="8785440" cy="477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475000" cy="1857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79920" cy="187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Фінанс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584360"/>
            <a:ext cx="792504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Податк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9160" y="1414440"/>
            <a:ext cx="7347240" cy="352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1729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nodeType="clickEffect" fill="hold">
                      <p:stCondLst>
                        <p:cond delay="0"/>
                      </p:stCondLst>
                      <p:childTnLst>
                        <p:par>
                          <p:cTn id="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Управлінськ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2240" y="1620720"/>
            <a:ext cx="757872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0"/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Завдання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960" y="1603440"/>
            <a:ext cx="8059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nodeType="clickEffect" fill="hold">
                      <p:stCondLst>
                        <p:cond delay="0"/>
                      </p:stCondLst>
                      <p:childTnLst>
                        <p:par>
                          <p:cTn id="7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Принципи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0520" y="1335240"/>
            <a:ext cx="7980120" cy="47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nodeType="clickEffect" fill="hold">
                      <p:stCondLst>
                        <p:cond delay="0"/>
                      </p:stCondLst>
                      <p:childTnLst>
                        <p:par>
                          <p:cTn id="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Вимоги до бухгалтерського обліку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1520" y="1341360"/>
            <a:ext cx="8254800" cy="453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nodeType="clickEffect" fill="hold">
                      <p:stCondLst>
                        <p:cond delay="0"/>
                      </p:stCondLst>
                      <p:childTnLst>
                        <p:par>
                          <p:cTn id="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Бухгалте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4960" y="1596960"/>
            <a:ext cx="584676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nodeType="clickEffect" fill="hold">
                      <p:stCondLst>
                        <p:cond delay="0"/>
                      </p:stCondLst>
                      <p:childTnLst>
                        <p:par>
                          <p:cTn id="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60280"/>
            <a:ext cx="82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Міжнародний герб бухгалтерів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6880" y="1468440"/>
            <a:ext cx="5844960" cy="477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59092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517680" y="1620720"/>
            <a:ext cx="365760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uk-UA" sz="3600" spc="-1" strike="noStrike">
                <a:solidFill>
                  <a:srgbClr val="dfe3e5"/>
                </a:solidFill>
                <a:latin typeface="Arial"/>
              </a:rPr>
              <a:t>В процесі обліку використовують    такі види вимірників: </a:t>
            </a:r>
            <a:br>
              <a:rPr sz="3600"/>
            </a:br>
            <a:r>
              <a:rPr b="0" lang="ru-RU" sz="3200" spc="-1" strike="noStrike">
                <a:solidFill>
                  <a:srgbClr val="dfe3e5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3680" y="1481040"/>
            <a:ext cx="8210520" cy="47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68680" y="3548160"/>
            <a:ext cx="4078440" cy="23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" y="1414440"/>
            <a:ext cx="5815080" cy="446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26080" y="24811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dfe3e5"/>
                </a:solidFill>
                <a:latin typeface="Arial"/>
              </a:rPr>
              <a:t>Натуральні 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вимірники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356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4367160"/>
            <a:ext cx="18669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3680" y="695160"/>
            <a:ext cx="8235720" cy="5540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357696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3360" y="1554120"/>
            <a:ext cx="793728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720" y="1292400"/>
            <a:ext cx="8204400" cy="55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Господа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08400" y="1268280"/>
            <a:ext cx="6156000" cy="506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3880" y="1852560"/>
            <a:ext cx="205452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4200" spc="-1" strike="noStrike">
                <a:solidFill>
                  <a:srgbClr val="dfe3e5"/>
                </a:solidFill>
                <a:latin typeface="Arial"/>
              </a:rPr>
              <a:t>Метою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 господарського облі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414440"/>
            <a:ext cx="8285400" cy="463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5440" y="423720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 видами господарський облік поділяється на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9800" y="1603440"/>
            <a:ext cx="8498160" cy="455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nodeType="clickEffect" fill="hold">
                      <p:stCondLst>
                        <p:cond delay="0"/>
                      </p:stCondLst>
                      <p:childTnLst>
                        <p:par>
                          <p:cTn id="2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3360" y="1395360"/>
            <a:ext cx="75708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" y="1620720"/>
            <a:ext cx="79981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89000"/>
            <a:ext cx="8064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9147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Бухгалтерський облі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це процес безперервного виявлення, вимірювання, реєстрації, накопичення, узагальнення, зберігання та передачі інформації у вартісному вигляді про господарську діяльність підприємства зовнішнім та внутрішнім користувачам для прийняття ріш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2952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28600"/>
            <a:ext cx="77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dfe3e5"/>
                </a:solidFill>
                <a:latin typeface="Arial"/>
              </a:rPr>
              <a:t>Бухгалтерський облік </a:t>
            </a:r>
            <a:r>
              <a:rPr b="0" lang="uk-UA" sz="2400" spc="-1" strike="noStrike">
                <a:solidFill>
                  <a:srgbClr val="dfe3e5"/>
                </a:solidFill>
                <a:latin typeface="Arial"/>
              </a:rPr>
              <a:t>у загальному циклі управління підприємством (планування — облік — аналіз — регулювання) виконує такі функції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6766200" cy="410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04:55Z</dcterms:created>
  <dc:creator>one</dc:creator>
  <dc:description/>
  <dc:language>en-US</dc:language>
  <cp:lastModifiedBy>Ольга Іванівна</cp:lastModifiedBy>
  <dcterms:modified xsi:type="dcterms:W3CDTF">2019-10-23T08:57:21Z</dcterms:modified>
  <cp:revision>61</cp:revision>
  <dc:subject/>
  <dc:title>Т.1 Бухгалтерський облік його суть і основи організації</dc:title>
</cp:coreProperties>
</file>